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7E9-DDAC-4552-B71C-723D8E09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6E5-929D-4D5E-9E70-EB031022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A02-A8AC-4AC0-8945-AC971FC0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8BB-0E31-43EF-8D3E-FBE1136E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4EB-F969-432D-AE8B-9031E67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AA8-6110-4432-BB39-CA4626F4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6DA-513B-459A-AD03-82CAB48E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A7C-60C3-4C0F-84AE-7F3C4785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092-15C5-4819-A7AB-288FCC1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157-56D3-4E46-8BF6-76D07B7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52A-0E1E-4604-B64E-C6C00EB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86A-94A3-4E86-8692-DF04C7E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3794-FB1E-4DB1-9D65-27AC5204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mh.nih.gov/health/publications/suicide-in-the-us-statistics-and-prevention/index.shtml" TargetMode="External"/><Relationship Id="rId2" Type="http://schemas.openxmlformats.org/officeDocument/2006/relationships/hyperlink" Target="http://www.bgiok.org.uk/being_gay/being_gay_main.html" TargetMode="External"/><Relationship Id="rId3" Type="http://schemas.openxmlformats.org/officeDocument/2006/relationships/hyperlink" Target="http://dictionary.reference.com/browse/love" TargetMode="External"/><Relationship Id="rId4" Type="http://schemas.openxmlformats.org/officeDocument/2006/relationships/hyperlink" Target="http://www.searchquotes.com/search/Hopes_And_Dreams/" TargetMode="External"/><Relationship Id="rId5" Type="http://schemas.openxmlformats.org/officeDocument/2006/relationships/hyperlink" Target="http://www.webmd.com/depression/default.htm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cess vs.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difficult staying on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lso found it hard to calmly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m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m going to get out of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lized how overlooked depress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managed to not have a panic at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affects my future: This whole project affects me and my future because I can’t graduate without do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I take away: The knowledge of everything I’ve spent weeks researching, writing about, and presenting. Also I am building presentation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Suicide in the U.S.: Statistics and Prevention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IMH Â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imh.nih.gov/health/publications/suicide-in-the-us-statistics-and-prevention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Being Gay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GIOK 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giok.org.uk/being_gay/being_gay_mai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Love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ictionary.c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Dictionary.com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ictionary.reference.com/browse/l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Hopes And Dreams Quot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Hopes And Dreams Quot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earchquotes.com/search/Hopes_And_Dream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Depression Center: Symptoms, Causes, Medications, and Therapi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ebM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WebMD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ebmd.com/depression/defaul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Depression Center: Symptoms, Causes, Medications, and Therapi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ebM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WebMD, n.d. Web. 12 Sept. 2012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webmd.com/depression/defaul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aking ADvantageMe, Myself and I: Self-Esteem and AdvertisingPart One of a Three Part Seri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, Myself and I: Self-Esteem and Advertis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public.wsu.edu/~taflinge/esteem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Increase Motivation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ickTheB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pickthebrain.com/blog/21-proven-motivation-tactics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een Drug Abuse Health Effect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een Drug Abuse Health Effec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teendrugabuse.us/teendruguse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een Pregnancy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een, Teenage Pregnanc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teenpregnancy.com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Google Images."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Google Im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5 Apr.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yo Clin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Mayo Foundation for Medical Education and Research, n.d. Web. 15 Apr.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Depression Support Help | Providing Quality Treatment and Therapy for Depression."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epression Support Help R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5 Apr.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esentation has been prepared under the fair use exemption of the US Copyright Law and is restricted from furthe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came interested in this topic because I noticed that many people have little to no motivation in life. Teenagers since we find it hard to stay mo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people decide to live instead of choosing to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is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can be less empty and meaningless if you have a reason to keep going i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homosexuality occurs in the animal kingdom so how could it not be natural? There is a gay penguin couple named Roy and Silo at a Zoo in 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of every 4 people suffer from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are almost 4x more likely to commit suicide than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th leading cause of death in males (2007) and 15th in females(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reated a presentation that would discuss a few of the most important parts of my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aught a counseling group on depression, the leading cause of suicid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it impact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nlightens people on how serious suicide is. Depression is a mental illness and should be taken seri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358164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most part I did all of it on my own however, my mentor Mr. Shipley made sure I got my work done and helped me when I was stumped on something and kept me mo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nect paper and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pletely relate because my product was a presentation that was discussing the most important information in my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25:19Z</dcterms:created>
  <dc:creator>CEC 140</dc:creator>
  <dc:description/>
  <dc:language>en-US</dc:language>
  <cp:lastModifiedBy>CEC 140</cp:lastModifiedBy>
  <dcterms:modified xsi:type="dcterms:W3CDTF">2013-04-17T20:07:31Z</dcterms:modified>
  <cp:revision>12</cp:revision>
  <dc:subject/>
  <dc:title>Reasons to Live</dc:title>
</cp:coreProperties>
</file>